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66D3-4225-45DF-B2AB-13EACAEC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F905-4A6D-41D3-BDCA-71A2CB2B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42C8-1B76-49C4-ACAE-23A607237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A6C0-6B30-41A0-BD6C-84CF303C0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506C-7528-4C26-8F0A-587C899D6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06EA-E21C-42F6-91E2-B1ED985E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ED3A-8608-4027-9166-00507E50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5772D-0A1F-42F3-B323-7E330AF0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F64F-A709-4C69-99E9-DBB803BD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0B91-0585-4318-A391-4E350EB4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9AE2-6673-4A12-B053-A4F59341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CC85-C735-4DDD-BE05-64572C56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98B9-A3EB-49B3-BA07-32EA3FF2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BD77-92D5-4AE2-AB6F-A537C15C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0AD6-98FA-4EAD-A26B-B6016224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F132-05D3-45AC-80E1-98F149A4A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A8A8-376D-4ED0-A7B2-3A3B9AC02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D5AA-8982-4278-A6B7-4BB11129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07B5-DC4D-4CB2-A35B-9AEDC30B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7909-A9C3-40D1-A30C-08AFF416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1E6B-F6B4-432B-A83C-779F65AD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2DCA-58AC-4E84-A1B9-05C24841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A240-3DF3-44D2-A7B0-72D36561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027B-4F74-4823-A202-314D6026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123C-BF89-4C37-949C-9472A39551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524E-6AC2-4D67-870D-BD2065AD39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ffbi.com/cgi-registry/fffbi/world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www.fffbi.com/missions/m1/" TargetMode="External"/><Relationship Id="rId4" Type="http://schemas.openxmlformats.org/officeDocument/2006/relationships/image" Target="../media/image6.png"/><Relationship Id="rId5" Type="http://schemas.openxmlformats.org/officeDocument/2006/relationships/hyperlink" Target="http://www.fffbi.com/games/perp/" TargetMode="External"/><Relationship Id="rId6" Type="http://schemas.openxmlformats.org/officeDocument/2006/relationships/hyperlink" Target="http://www.fffbi.com/cgi-registry/fffbi/world" TargetMode="External"/><Relationship Id="rId7" Type="http://schemas.openxmlformats.org/officeDocument/2006/relationships/hyperlink" Target="http://www.fffbi.com/missions/m1/" TargetMode="External"/><Relationship Id="rId8" Type="http://schemas.openxmlformats.org/officeDocument/2006/relationships/hyperlink" Target="http://www.fffbi.com/games/perp/walk.html" TargetMode="Externa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crick.northants.sch.uk/Flash%20Studio/cfsmaths/Digitworks/digitmenu.html" TargetMode="External"/><Relationship Id="rId3" Type="http://schemas.openxmlformats.org/officeDocument/2006/relationships/hyperlink" Target="http://www.prongo.com/math/multiplication.html" TargetMode="External"/><Relationship Id="rId4" Type="http://schemas.openxmlformats.org/officeDocument/2006/relationships/hyperlink" Target="http://www.lgfl.net/lgfl/leas/enfield/schools/southbury/web/mw/x10%20x100/x10%20x100.swf" TargetMode="Externa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ffbi.com/missions/" TargetMode="External"/><Relationship Id="rId2" Type="http://schemas.openxmlformats.org/officeDocument/2006/relationships/image" Target="../media/image10.png"/><Relationship Id="rId3" Type="http://schemas.openxmlformats.org/officeDocument/2006/relationships/hyperlink" Target="http://www.bbc.co.uk/skillswise/words/grammar/punctuation/apostrophes/game.shtml" TargetMode="External"/><Relationship Id="rId4" Type="http://schemas.openxmlformats.org/officeDocument/2006/relationships/hyperlink" Target="http://www.bbc.co.uk/skillswise/words/grammar/interestsentences/adjectives/game.shtml" TargetMode="External"/><Relationship Id="rId5" Type="http://schemas.openxmlformats.org/officeDocument/2006/relationships/hyperlink" Target="http://www.bbc.co.uk/skillswise/words/spelling/recognising/homophones/game.shtml" TargetMode="External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Times New Roman"/>
              </a:rPr>
              <a:t>Senior School </a:t>
            </a:r>
            <a:br>
              <a:rPr sz="6200"/>
            </a:br>
            <a:r>
              <a:rPr b="1" lang="en-US" sz="6200" spc="-1" strike="noStrike">
                <a:solidFill>
                  <a:srgbClr val="ffffff"/>
                </a:solidFill>
                <a:latin typeface="Times New Roman"/>
              </a:rPr>
              <a:t>Digital Learning centre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348000" y="3645000"/>
            <a:ext cx="22557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Home Pag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Coffee Guy standing and pointing"/>
          <p:cNvPicPr/>
          <p:nvPr/>
        </p:nvPicPr>
        <p:blipFill>
          <a:blip r:embed="rId1"/>
          <a:stretch/>
        </p:blipFill>
        <p:spPr>
          <a:xfrm>
            <a:off x="3879720" y="3141720"/>
            <a:ext cx="2378160" cy="2735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84720" y="1989000"/>
            <a:ext cx="2505240" cy="2880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87280" y="2349360"/>
            <a:ext cx="792360" cy="576360"/>
          </a:xfrm>
          <a:custGeom>
            <a:avLst/>
            <a:gdLst>
              <a:gd name="textAreaLeft" fmla="*/ 37080 w 792360"/>
              <a:gd name="textAreaRight" fmla="*/ 755280 w 792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90" h="21600">
                <a:moveTo>
                  <a:pt x="0" y="0"/>
                </a:moveTo>
                <a:lnTo>
                  <a:pt x="29690" y="0"/>
                </a:lnTo>
                <a:lnTo>
                  <a:pt x="29690" y="21600"/>
                </a:lnTo>
                <a:lnTo>
                  <a:pt x="0" y="21600"/>
                </a:lnTo>
                <a:close/>
              </a:path>
              <a:path fill="lightenLess" w="29690" h="21600">
                <a:moveTo>
                  <a:pt x="0" y="0"/>
                </a:moveTo>
                <a:lnTo>
                  <a:pt x="29690" y="0"/>
                </a:lnTo>
                <a:lnTo>
                  <a:pt x="28290" y="1400"/>
                </a:lnTo>
                <a:lnTo>
                  <a:pt x="1400" y="1400"/>
                </a:lnTo>
                <a:close/>
              </a:path>
              <a:path fill="darken" w="29690" h="21600">
                <a:moveTo>
                  <a:pt x="29690" y="0"/>
                </a:moveTo>
                <a:lnTo>
                  <a:pt x="29690" y="21600"/>
                </a:lnTo>
                <a:lnTo>
                  <a:pt x="28290" y="20200"/>
                </a:lnTo>
                <a:lnTo>
                  <a:pt x="28290" y="1400"/>
                </a:lnTo>
                <a:close/>
              </a:path>
              <a:path fill="darkenLess" w="29690" h="21600">
                <a:moveTo>
                  <a:pt x="29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0" y="20200"/>
                </a:lnTo>
                <a:close/>
              </a:path>
              <a:path fill="lighten" w="29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58920" y="35733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58920" y="4724280"/>
            <a:ext cx="863640" cy="648000"/>
          </a:xfrm>
          <a:custGeom>
            <a:avLst/>
            <a:gdLst>
              <a:gd name="textAreaLeft" fmla="*/ 41760 w 863640"/>
              <a:gd name="textAreaRight" fmla="*/ 821880 w 8636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8784" h="21600">
                <a:moveTo>
                  <a:pt x="0" y="0"/>
                </a:moveTo>
                <a:lnTo>
                  <a:pt x="28784" y="0"/>
                </a:lnTo>
                <a:lnTo>
                  <a:pt x="28784" y="21600"/>
                </a:lnTo>
                <a:lnTo>
                  <a:pt x="0" y="21600"/>
                </a:lnTo>
                <a:close/>
              </a:path>
              <a:path fill="lightenLess" w="28784" h="21600">
                <a:moveTo>
                  <a:pt x="0" y="0"/>
                </a:moveTo>
                <a:lnTo>
                  <a:pt x="28784" y="0"/>
                </a:lnTo>
                <a:lnTo>
                  <a:pt x="27384" y="1400"/>
                </a:lnTo>
                <a:lnTo>
                  <a:pt x="1400" y="1400"/>
                </a:lnTo>
                <a:close/>
              </a:path>
              <a:path fill="darken" w="28784" h="21600">
                <a:moveTo>
                  <a:pt x="28784" y="0"/>
                </a:moveTo>
                <a:lnTo>
                  <a:pt x="28784" y="21600"/>
                </a:lnTo>
                <a:lnTo>
                  <a:pt x="27384" y="20200"/>
                </a:lnTo>
                <a:lnTo>
                  <a:pt x="27384" y="1400"/>
                </a:lnTo>
                <a:close/>
              </a:path>
              <a:path fill="darkenLess" w="28784" h="21600">
                <a:moveTo>
                  <a:pt x="28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4" y="20200"/>
                </a:lnTo>
                <a:close/>
              </a:path>
              <a:path fill="lighten" w="28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95640" y="2421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 Sol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40000" y="364500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t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340000" y="4653000"/>
            <a:ext cx="259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amm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Horizontal logo with Elbow"/>
          <p:cNvPicPr/>
          <p:nvPr/>
        </p:nvPicPr>
        <p:blipFill>
          <a:blip r:embed="rId3"/>
          <a:stretch/>
        </p:blipFill>
        <p:spPr>
          <a:xfrm>
            <a:off x="4788000" y="476280"/>
            <a:ext cx="360036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oblem Solv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Agent Solomon at his des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3213000"/>
            <a:ext cx="2781360" cy="1152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A GAS-Chicken flexing her muscl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19640" y="4581360"/>
            <a:ext cx="2878200" cy="129564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rId5"/>
          </p:cNvPr>
          <p:cNvSpPr/>
          <p:nvPr/>
        </p:nvSpPr>
        <p:spPr>
          <a:xfrm>
            <a:off x="1332000" y="1989000"/>
            <a:ext cx="792000" cy="64800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6397" h="21600">
                <a:moveTo>
                  <a:pt x="0" y="0"/>
                </a:moveTo>
                <a:lnTo>
                  <a:pt x="26397" y="0"/>
                </a:lnTo>
                <a:lnTo>
                  <a:pt x="26397" y="21600"/>
                </a:lnTo>
                <a:lnTo>
                  <a:pt x="0" y="21600"/>
                </a:lnTo>
                <a:close/>
              </a:path>
              <a:path fill="lightenLess" w="26397" h="21600">
                <a:moveTo>
                  <a:pt x="0" y="0"/>
                </a:moveTo>
                <a:lnTo>
                  <a:pt x="26397" y="0"/>
                </a:lnTo>
                <a:lnTo>
                  <a:pt x="24997" y="1400"/>
                </a:lnTo>
                <a:lnTo>
                  <a:pt x="1400" y="1400"/>
                </a:lnTo>
                <a:close/>
              </a:path>
              <a:path fill="darken" w="26397" h="21600">
                <a:moveTo>
                  <a:pt x="26397" y="0"/>
                </a:moveTo>
                <a:lnTo>
                  <a:pt x="26397" y="21600"/>
                </a:lnTo>
                <a:lnTo>
                  <a:pt x="24997" y="20200"/>
                </a:lnTo>
                <a:lnTo>
                  <a:pt x="24997" y="1400"/>
                </a:lnTo>
                <a:close/>
              </a:path>
              <a:path fill="darkenLess" w="26397" h="21600">
                <a:moveTo>
                  <a:pt x="263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7" y="20200"/>
                </a:lnTo>
                <a:close/>
              </a:path>
              <a:path fill="lighten" w="263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6"/>
          </p:cNvPr>
          <p:cNvSpPr/>
          <p:nvPr/>
        </p:nvSpPr>
        <p:spPr>
          <a:xfrm>
            <a:off x="1332000" y="3213000"/>
            <a:ext cx="792000" cy="7207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35" h="21600">
                <a:moveTo>
                  <a:pt x="0" y="0"/>
                </a:moveTo>
                <a:lnTo>
                  <a:pt x="23735" y="0"/>
                </a:lnTo>
                <a:lnTo>
                  <a:pt x="23735" y="21600"/>
                </a:lnTo>
                <a:lnTo>
                  <a:pt x="0" y="21600"/>
                </a:lnTo>
                <a:close/>
              </a:path>
              <a:path fill="lightenLess" w="23735" h="21600">
                <a:moveTo>
                  <a:pt x="0" y="0"/>
                </a:moveTo>
                <a:lnTo>
                  <a:pt x="23735" y="0"/>
                </a:lnTo>
                <a:lnTo>
                  <a:pt x="22335" y="1400"/>
                </a:lnTo>
                <a:lnTo>
                  <a:pt x="1400" y="1400"/>
                </a:lnTo>
                <a:close/>
              </a:path>
              <a:path fill="darken" w="23735" h="21600">
                <a:moveTo>
                  <a:pt x="23735" y="0"/>
                </a:moveTo>
                <a:lnTo>
                  <a:pt x="23735" y="21600"/>
                </a:lnTo>
                <a:lnTo>
                  <a:pt x="22335" y="20200"/>
                </a:lnTo>
                <a:lnTo>
                  <a:pt x="22335" y="1400"/>
                </a:lnTo>
                <a:close/>
              </a:path>
              <a:path fill="darkenLess" w="23735" h="21600">
                <a:moveTo>
                  <a:pt x="23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5" y="20200"/>
                </a:lnTo>
                <a:close/>
              </a:path>
              <a:path fill="lighten" w="23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7"/>
          </p:cNvPr>
          <p:cNvSpPr/>
          <p:nvPr/>
        </p:nvSpPr>
        <p:spPr>
          <a:xfrm>
            <a:off x="1403280" y="4797360"/>
            <a:ext cx="865080" cy="792360"/>
          </a:xfrm>
          <a:custGeom>
            <a:avLst/>
            <a:gdLst>
              <a:gd name="textAreaLeft" fmla="*/ 51120 w 865080"/>
              <a:gd name="textAreaRight" fmla="*/ 813960 w 86508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81" h="21600">
                <a:moveTo>
                  <a:pt x="0" y="0"/>
                </a:moveTo>
                <a:lnTo>
                  <a:pt x="23581" y="0"/>
                </a:lnTo>
                <a:lnTo>
                  <a:pt x="23581" y="21600"/>
                </a:lnTo>
                <a:lnTo>
                  <a:pt x="0" y="21600"/>
                </a:lnTo>
                <a:close/>
              </a:path>
              <a:path fill="lightenLess" w="23581" h="21600">
                <a:moveTo>
                  <a:pt x="0" y="0"/>
                </a:moveTo>
                <a:lnTo>
                  <a:pt x="23581" y="0"/>
                </a:lnTo>
                <a:lnTo>
                  <a:pt x="22182" y="1400"/>
                </a:lnTo>
                <a:lnTo>
                  <a:pt x="1400" y="1400"/>
                </a:lnTo>
                <a:close/>
              </a:path>
              <a:path fill="darken" w="23581" h="21600">
                <a:moveTo>
                  <a:pt x="23581" y="0"/>
                </a:moveTo>
                <a:lnTo>
                  <a:pt x="23581" y="21600"/>
                </a:lnTo>
                <a:lnTo>
                  <a:pt x="22182" y="20200"/>
                </a:lnTo>
                <a:lnTo>
                  <a:pt x="22182" y="1400"/>
                </a:lnTo>
                <a:close/>
              </a:path>
              <a:path fill="darkenLess" w="23581" h="21600">
                <a:moveTo>
                  <a:pt x="235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82" y="20200"/>
                </a:lnTo>
                <a:close/>
              </a:path>
              <a:path fill="lighten" w="235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16360" y="4653000"/>
            <a:ext cx="223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ration Gas Chic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71640" y="3284640"/>
            <a:ext cx="20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ld Trivia Quiz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Perps standing in a lineup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219640" y="1341360"/>
            <a:ext cx="2737080" cy="17416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627280" y="19890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p Wal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44000" y="5373720"/>
            <a:ext cx="503280" cy="576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734">
                <a:moveTo>
                  <a:pt x="0" y="0"/>
                </a:moveTo>
                <a:lnTo>
                  <a:pt x="21600" y="0"/>
                </a:lnTo>
                <a:lnTo>
                  <a:pt x="21600" y="24734"/>
                </a:lnTo>
                <a:lnTo>
                  <a:pt x="0" y="24734"/>
                </a:lnTo>
                <a:close/>
              </a:path>
              <a:path fill="lightenLess" w="21600" h="247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4">
                <a:moveTo>
                  <a:pt x="21600" y="0"/>
                </a:moveTo>
                <a:lnTo>
                  <a:pt x="21600" y="24734"/>
                </a:lnTo>
                <a:lnTo>
                  <a:pt x="20200" y="23334"/>
                </a:lnTo>
                <a:lnTo>
                  <a:pt x="20200" y="1400"/>
                </a:lnTo>
                <a:close/>
              </a:path>
              <a:path fill="darkenLess" w="21600" h="24734">
                <a:moveTo>
                  <a:pt x="21600" y="24734"/>
                </a:moveTo>
                <a:lnTo>
                  <a:pt x="0" y="24734"/>
                </a:lnTo>
                <a:lnTo>
                  <a:pt x="1400" y="23334"/>
                </a:lnTo>
                <a:lnTo>
                  <a:pt x="20200" y="23334"/>
                </a:lnTo>
                <a:close/>
              </a:path>
              <a:path fill="lighten" w="21600" h="24734">
                <a:moveTo>
                  <a:pt x="0" y="247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4"/>
                </a:lnTo>
                <a:close/>
              </a:path>
              <a:path fill="darken" w="21600" h="24734">
                <a:moveTo>
                  <a:pt x="10800" y="5404"/>
                </a:moveTo>
                <a:lnTo>
                  <a:pt x="13376" y="8015"/>
                </a:lnTo>
                <a:lnTo>
                  <a:pt x="13376" y="6275"/>
                </a:lnTo>
                <a:lnTo>
                  <a:pt x="15152" y="6275"/>
                </a:lnTo>
                <a:lnTo>
                  <a:pt x="15152" y="9791"/>
                </a:lnTo>
                <a:lnTo>
                  <a:pt x="17763" y="12367"/>
                </a:lnTo>
                <a:lnTo>
                  <a:pt x="16109" y="12367"/>
                </a:lnTo>
                <a:lnTo>
                  <a:pt x="16109" y="19556"/>
                </a:lnTo>
                <a:lnTo>
                  <a:pt x="5491" y="19556"/>
                </a:lnTo>
                <a:lnTo>
                  <a:pt x="5491" y="12367"/>
                </a:lnTo>
                <a:lnTo>
                  <a:pt x="3837" y="12367"/>
                </a:lnTo>
                <a:close/>
              </a:path>
              <a:path fill="darkenLess" w="21600" h="24734">
                <a:moveTo>
                  <a:pt x="13376" y="8015"/>
                </a:moveTo>
                <a:lnTo>
                  <a:pt x="13376" y="6275"/>
                </a:lnTo>
                <a:lnTo>
                  <a:pt x="15152" y="6275"/>
                </a:lnTo>
                <a:lnTo>
                  <a:pt x="15152" y="9791"/>
                </a:lnTo>
                <a:close/>
              </a:path>
              <a:path fill="darkenLess" w="21600" h="24734">
                <a:moveTo>
                  <a:pt x="9877" y="15866"/>
                </a:moveTo>
                <a:lnTo>
                  <a:pt x="11723" y="15866"/>
                </a:lnTo>
                <a:lnTo>
                  <a:pt x="11723" y="19556"/>
                </a:lnTo>
                <a:lnTo>
                  <a:pt x="16109" y="19556"/>
                </a:lnTo>
                <a:lnTo>
                  <a:pt x="16109" y="12367"/>
                </a:lnTo>
                <a:lnTo>
                  <a:pt x="5491" y="12367"/>
                </a:lnTo>
                <a:lnTo>
                  <a:pt x="5491" y="19556"/>
                </a:lnTo>
                <a:lnTo>
                  <a:pt x="9877" y="195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Math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435640" y="2708280"/>
            <a:ext cx="2752560" cy="316224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2"/>
          </p:cNvPr>
          <p:cNvSpPr/>
          <p:nvPr/>
        </p:nvSpPr>
        <p:spPr>
          <a:xfrm>
            <a:off x="971640" y="220500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rId3"/>
          </p:cNvPr>
          <p:cNvSpPr/>
          <p:nvPr/>
        </p:nvSpPr>
        <p:spPr>
          <a:xfrm>
            <a:off x="971640" y="3357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>
            <a:hlinkClick r:id="rId4"/>
          </p:cNvPr>
          <p:cNvSpPr/>
          <p:nvPr/>
        </p:nvSpPr>
        <p:spPr>
          <a:xfrm>
            <a:off x="1042920" y="4797360"/>
            <a:ext cx="720720" cy="71928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43" h="21600">
                <a:moveTo>
                  <a:pt x="0" y="0"/>
                </a:moveTo>
                <a:lnTo>
                  <a:pt x="21643" y="0"/>
                </a:lnTo>
                <a:lnTo>
                  <a:pt x="21643" y="21600"/>
                </a:lnTo>
                <a:lnTo>
                  <a:pt x="0" y="21600"/>
                </a:lnTo>
                <a:close/>
              </a:path>
              <a:path fill="lightenLess" w="21643" h="21600">
                <a:moveTo>
                  <a:pt x="0" y="0"/>
                </a:moveTo>
                <a:lnTo>
                  <a:pt x="21643" y="0"/>
                </a:lnTo>
                <a:lnTo>
                  <a:pt x="20243" y="1400"/>
                </a:lnTo>
                <a:lnTo>
                  <a:pt x="1400" y="1400"/>
                </a:lnTo>
                <a:close/>
              </a:path>
              <a:path fill="darken" w="21643" h="21600">
                <a:moveTo>
                  <a:pt x="21643" y="0"/>
                </a:moveTo>
                <a:lnTo>
                  <a:pt x="21643" y="21600"/>
                </a:lnTo>
                <a:lnTo>
                  <a:pt x="20243" y="20200"/>
                </a:lnTo>
                <a:lnTo>
                  <a:pt x="20243" y="1400"/>
                </a:lnTo>
                <a:close/>
              </a:path>
              <a:path fill="darkenLess" w="21643" h="21600">
                <a:moveTo>
                  <a:pt x="21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3" y="20200"/>
                </a:lnTo>
                <a:close/>
              </a:path>
              <a:path fill="lighten" w="21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68360" y="2205000"/>
            <a:ext cx="31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Digit Work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40000" y="335772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tter’s Up Baseb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68360" y="4724280"/>
            <a:ext cx="26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ying or Dividing by 10 or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Bunkum catching a fly with his tongue"/>
          <p:cNvPicPr/>
          <p:nvPr/>
        </p:nvPicPr>
        <p:blipFill>
          <a:blip r:embed="rId5"/>
          <a:stretch/>
        </p:blipFill>
        <p:spPr>
          <a:xfrm>
            <a:off x="4500720" y="549360"/>
            <a:ext cx="3600360" cy="1170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101080" y="5229360"/>
            <a:ext cx="576360" cy="72072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20720"/>
              <a:gd name="textAreaBottom" fmla="*/ 683640 h 720720"/>
            </a:gdLst>
            <a:ahLst/>
            <a:rect l="textAreaLeft" t="textAreaTop" r="textAreaRight" b="textAreaBottom"/>
            <a:pathLst>
              <a:path w="21600" h="27007">
                <a:moveTo>
                  <a:pt x="0" y="0"/>
                </a:moveTo>
                <a:lnTo>
                  <a:pt x="21600" y="0"/>
                </a:lnTo>
                <a:lnTo>
                  <a:pt x="21600" y="27007"/>
                </a:lnTo>
                <a:lnTo>
                  <a:pt x="0" y="27007"/>
                </a:lnTo>
                <a:close/>
              </a:path>
              <a:path fill="lightenLess" w="21600" h="270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7">
                <a:moveTo>
                  <a:pt x="21600" y="0"/>
                </a:moveTo>
                <a:lnTo>
                  <a:pt x="21600" y="27007"/>
                </a:lnTo>
                <a:lnTo>
                  <a:pt x="20200" y="25607"/>
                </a:lnTo>
                <a:lnTo>
                  <a:pt x="20200" y="1400"/>
                </a:lnTo>
                <a:close/>
              </a:path>
              <a:path fill="darkenLess" w="21600" h="27007">
                <a:moveTo>
                  <a:pt x="21600" y="27007"/>
                </a:moveTo>
                <a:lnTo>
                  <a:pt x="0" y="27007"/>
                </a:lnTo>
                <a:lnTo>
                  <a:pt x="1400" y="25607"/>
                </a:lnTo>
                <a:lnTo>
                  <a:pt x="20200" y="25607"/>
                </a:lnTo>
                <a:close/>
              </a:path>
              <a:path fill="lighten" w="21600" h="27007">
                <a:moveTo>
                  <a:pt x="0" y="270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7"/>
                </a:lnTo>
                <a:close/>
              </a:path>
              <a:path fill="darken" w="21600" h="27007">
                <a:moveTo>
                  <a:pt x="10800" y="6540"/>
                </a:moveTo>
                <a:lnTo>
                  <a:pt x="13376" y="9152"/>
                </a:lnTo>
                <a:lnTo>
                  <a:pt x="13376" y="7411"/>
                </a:lnTo>
                <a:lnTo>
                  <a:pt x="15152" y="7411"/>
                </a:lnTo>
                <a:lnTo>
                  <a:pt x="15152" y="10927"/>
                </a:lnTo>
                <a:lnTo>
                  <a:pt x="17763" y="13503"/>
                </a:lnTo>
                <a:lnTo>
                  <a:pt x="16109" y="13503"/>
                </a:lnTo>
                <a:lnTo>
                  <a:pt x="16109" y="20693"/>
                </a:lnTo>
                <a:lnTo>
                  <a:pt x="5491" y="20693"/>
                </a:lnTo>
                <a:lnTo>
                  <a:pt x="5491" y="13503"/>
                </a:lnTo>
                <a:lnTo>
                  <a:pt x="3837" y="13503"/>
                </a:lnTo>
                <a:close/>
              </a:path>
              <a:path fill="darkenLess" w="21600" h="27007">
                <a:moveTo>
                  <a:pt x="13376" y="9152"/>
                </a:moveTo>
                <a:lnTo>
                  <a:pt x="13376" y="7411"/>
                </a:lnTo>
                <a:lnTo>
                  <a:pt x="15152" y="7411"/>
                </a:lnTo>
                <a:lnTo>
                  <a:pt x="15152" y="10927"/>
                </a:lnTo>
                <a:close/>
              </a:path>
              <a:path fill="darkenLess" w="21600" h="27007">
                <a:moveTo>
                  <a:pt x="9877" y="17002"/>
                </a:moveTo>
                <a:lnTo>
                  <a:pt x="11723" y="17002"/>
                </a:lnTo>
                <a:lnTo>
                  <a:pt x="11723" y="20693"/>
                </a:lnTo>
                <a:lnTo>
                  <a:pt x="16109" y="20693"/>
                </a:lnTo>
                <a:lnTo>
                  <a:pt x="16109" y="13503"/>
                </a:lnTo>
                <a:lnTo>
                  <a:pt x="5491" y="13503"/>
                </a:lnTo>
                <a:lnTo>
                  <a:pt x="5491" y="20693"/>
                </a:lnTo>
                <a:lnTo>
                  <a:pt x="9877" y="206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Agents Glitch and Sur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549360"/>
            <a:ext cx="2952720" cy="110340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rId3"/>
          </p:cNvPr>
          <p:cNvSpPr/>
          <p:nvPr/>
        </p:nvSpPr>
        <p:spPr>
          <a:xfrm>
            <a:off x="1116000" y="227664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4"/>
          </p:cNvPr>
          <p:cNvSpPr/>
          <p:nvPr/>
        </p:nvSpPr>
        <p:spPr>
          <a:xfrm>
            <a:off x="1042920" y="3429000"/>
            <a:ext cx="865080" cy="719280"/>
          </a:xfrm>
          <a:custGeom>
            <a:avLst/>
            <a:gdLst>
              <a:gd name="textAreaLeft" fmla="*/ 46440 w 865080"/>
              <a:gd name="textAreaRight" fmla="*/ 818640 w 8650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76" h="21600">
                <a:moveTo>
                  <a:pt x="0" y="0"/>
                </a:moveTo>
                <a:lnTo>
                  <a:pt x="25976" y="0"/>
                </a:lnTo>
                <a:lnTo>
                  <a:pt x="25976" y="21600"/>
                </a:lnTo>
                <a:lnTo>
                  <a:pt x="0" y="21600"/>
                </a:lnTo>
                <a:close/>
              </a:path>
              <a:path fill="lightenLess" w="25976" h="21600">
                <a:moveTo>
                  <a:pt x="0" y="0"/>
                </a:moveTo>
                <a:lnTo>
                  <a:pt x="25976" y="0"/>
                </a:lnTo>
                <a:lnTo>
                  <a:pt x="24576" y="1400"/>
                </a:lnTo>
                <a:lnTo>
                  <a:pt x="1400" y="1400"/>
                </a:lnTo>
                <a:close/>
              </a:path>
              <a:path fill="darken" w="25976" h="21600">
                <a:moveTo>
                  <a:pt x="25976" y="0"/>
                </a:moveTo>
                <a:lnTo>
                  <a:pt x="25976" y="21600"/>
                </a:lnTo>
                <a:lnTo>
                  <a:pt x="24576" y="20200"/>
                </a:lnTo>
                <a:lnTo>
                  <a:pt x="24576" y="1400"/>
                </a:lnTo>
                <a:close/>
              </a:path>
              <a:path fill="darkenLess" w="25976" h="21600">
                <a:moveTo>
                  <a:pt x="25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6" y="20200"/>
                </a:lnTo>
                <a:close/>
              </a:path>
              <a:path fill="lighten" w="25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rId5"/>
          </p:cNvPr>
          <p:cNvSpPr/>
          <p:nvPr/>
        </p:nvSpPr>
        <p:spPr>
          <a:xfrm>
            <a:off x="1116000" y="4724280"/>
            <a:ext cx="863640" cy="7207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881" h="21600">
                <a:moveTo>
                  <a:pt x="0" y="0"/>
                </a:moveTo>
                <a:lnTo>
                  <a:pt x="25881" y="0"/>
                </a:lnTo>
                <a:lnTo>
                  <a:pt x="25881" y="21600"/>
                </a:lnTo>
                <a:lnTo>
                  <a:pt x="0" y="21600"/>
                </a:lnTo>
                <a:close/>
              </a:path>
              <a:path fill="lightenLess" w="25881" h="21600">
                <a:moveTo>
                  <a:pt x="0" y="0"/>
                </a:moveTo>
                <a:lnTo>
                  <a:pt x="25881" y="0"/>
                </a:lnTo>
                <a:lnTo>
                  <a:pt x="24481" y="1400"/>
                </a:lnTo>
                <a:lnTo>
                  <a:pt x="1400" y="1400"/>
                </a:lnTo>
                <a:close/>
              </a:path>
              <a:path fill="darken" w="25881" h="21600">
                <a:moveTo>
                  <a:pt x="25881" y="0"/>
                </a:moveTo>
                <a:lnTo>
                  <a:pt x="25881" y="21600"/>
                </a:lnTo>
                <a:lnTo>
                  <a:pt x="24481" y="20200"/>
                </a:lnTo>
                <a:lnTo>
                  <a:pt x="24481" y="1400"/>
                </a:lnTo>
                <a:close/>
              </a:path>
              <a:path fill="darkenLess" w="25881" h="21600">
                <a:moveTo>
                  <a:pt x="25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81" y="20200"/>
                </a:lnTo>
                <a:close/>
              </a:path>
              <a:path fill="lighten" w="25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68360" y="501336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moph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11280" y="357336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68360" y="242100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ostrop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6084720" y="2852640"/>
            <a:ext cx="1649520" cy="2160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956720" y="537372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11988" y="3837"/>
                </a:moveTo>
                <a:lnTo>
                  <a:pt x="14564" y="6448"/>
                </a:lnTo>
                <a:lnTo>
                  <a:pt x="14564" y="4707"/>
                </a:lnTo>
                <a:lnTo>
                  <a:pt x="16340" y="4707"/>
                </a:lnTo>
                <a:lnTo>
                  <a:pt x="16340" y="8224"/>
                </a:lnTo>
                <a:lnTo>
                  <a:pt x="18951" y="10800"/>
                </a:lnTo>
                <a:lnTo>
                  <a:pt x="17297" y="10800"/>
                </a:lnTo>
                <a:lnTo>
                  <a:pt x="17297" y="17989"/>
                </a:lnTo>
                <a:lnTo>
                  <a:pt x="6679" y="17989"/>
                </a:lnTo>
                <a:lnTo>
                  <a:pt x="6679" y="10800"/>
                </a:lnTo>
                <a:lnTo>
                  <a:pt x="5025" y="10800"/>
                </a:lnTo>
                <a:close/>
              </a:path>
              <a:path fill="darkenLess" w="23976" h="21600">
                <a:moveTo>
                  <a:pt x="14564" y="6448"/>
                </a:moveTo>
                <a:lnTo>
                  <a:pt x="14564" y="4707"/>
                </a:lnTo>
                <a:lnTo>
                  <a:pt x="16340" y="4707"/>
                </a:lnTo>
                <a:lnTo>
                  <a:pt x="16340" y="8224"/>
                </a:lnTo>
                <a:close/>
              </a:path>
              <a:path fill="darkenLess" w="23976" h="21600">
                <a:moveTo>
                  <a:pt x="11065" y="14299"/>
                </a:moveTo>
                <a:lnTo>
                  <a:pt x="12911" y="14299"/>
                </a:lnTo>
                <a:lnTo>
                  <a:pt x="12911" y="17989"/>
                </a:lnTo>
                <a:lnTo>
                  <a:pt x="17297" y="17989"/>
                </a:lnTo>
                <a:lnTo>
                  <a:pt x="17297" y="10800"/>
                </a:lnTo>
                <a:lnTo>
                  <a:pt x="6679" y="10800"/>
                </a:lnTo>
                <a:lnTo>
                  <a:pt x="6679" y="17989"/>
                </a:lnTo>
                <a:lnTo>
                  <a:pt x="11065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23:56:46Z</dcterms:created>
  <dc:creator>Gunn</dc:creator>
  <dc:description/>
  <dc:language>en-US</dc:language>
  <cp:lastModifiedBy>lindal</cp:lastModifiedBy>
  <dcterms:modified xsi:type="dcterms:W3CDTF">2007-05-10T14:09:18Z</dcterms:modified>
  <cp:revision>4</cp:revision>
  <dc:subject/>
  <dc:title>Senior School  Digital Learning centre</dc:title>
</cp:coreProperties>
</file>